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32A-2ED5-4862-ABA0-CB1CECDE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3A4-1214-4DDF-ACD5-2D228A7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413-FCC9-49BF-8AA4-69C0C872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210-A9B9-42EC-82FB-2F6769CA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9B72-9C34-47F4-A6EB-A101D06E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215-C626-4EDB-ABB8-7009AC3F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7C6-FF6E-416C-84A6-BC0A4DEA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8711-5A6A-4833-987D-1979D93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1895-7612-4A23-B60F-103B0DA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CDDC-2691-4642-ACAD-9BFA120C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840-9415-44F5-9157-4716E36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7EE-3B12-484E-8629-D05D128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40F-36B7-406B-8DDE-55B7002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3955-B72D-438E-B122-E7FF9D5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7038-AA39-4CFE-AC1B-9282434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2EE8-F174-47F3-9A17-15704B93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01B4-B739-4B82-AF18-01849601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F5F-10B3-4D85-8389-E9B40E1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7B9-25EF-44BA-8DF6-646A78AA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979-EB43-496A-8399-4D370F8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2BF-89A5-4437-BD71-9BCD86A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E68-E0DC-432E-9DDF-B8BE7F6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B2C-981D-430D-8344-6C9B936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33D-70A0-4372-B223-D12A4AB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69C-A05F-498A-BA5B-922C05F4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F6E-CBFF-41C8-A2E0-5DFD1152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ulh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estão de leitura: Livro do Aho, Sethi, Ullman (dragão)- Seções 5.1-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reconhecimento, quando a produção 2 é reduzida, o atributo tipo associado ao não terminal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ecebe o valor do tipo reconhe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da produção 1 adiciona na tabela de símbolos o nome da variável e seu respectiv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bemos que em nosso modelo sendo implementado, cada símbolo não terminal foi convertido em uma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maioria das linguagens não é possível associar atributos à nome de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esses atributos podem ser representados por parâmetros passados à função, ou mesmo um valor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na gramá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ype -&gt; id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os dois símbolos não term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ecessitamos de duas funções para implementar um analisador sintático descendente recurs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id D 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VA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Var = atomoCor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ype( &amp;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dTabSimb(IDVar.lexeme, 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 type( ttype *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omoIDTipo = atomoCorr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trID = buscaTS(atomoIDTipo.lexe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 !pr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de tipo” +atomoIDTipo.lexeme + “indefinid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ptrID.categoria  != IDTI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” +atomoIDTipo.lexeme + “ não é identif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tip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ptrID.ti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is seriam as ações semânticas para o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claracao_de_varia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::=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ficad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identific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 da compilação de linguagens guiadas por gramáticas livres de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 informações atrelando atributos aos símbolos gramaticais que representam as constru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valores dos atributos são computados pelas ações semân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uas not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362320"/>
            <a:ext cx="5105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895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du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029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61680" y="380988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67360" y="3879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lux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ken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intaticamente anali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nstruída a 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rvore é percorrida avaliando-se 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regras semân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semânticas pod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r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lvar informações n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tir mensagens de 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zar outras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de 1 ou mais pass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implementada em uma passagem, executando as ações semânticas juntamente com a análise sint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técnica que permite realizar tradução (geração de código) concomitantemente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ões semânticas são associadas às regras de produção da gramática de modo que, quando uma dada produção é processada, essas ações sejam execu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pecificações de alto 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símbolo gramatical possui um conjunto de atributos associados dividido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sintetiz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fil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her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pais e irmã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6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semânticas estabelecem dependências entre os atributos representados em u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fo determina a ordem de avaliação das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valiação das regras semânticas gera os valores d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rvore gramatical que mostra os valores dos atributos é chamada de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produção A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associado a um conjunto de regras semânticas n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 := f(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função que vigora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a das seguintes situ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ertencente a um dos símbolos gramaticais do lado direito da produção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mbos os casos, dizemos que o atributo B depende dos atributos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nalisar uma definição definida pela sintaxe para uma calcu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definição associa um atributo sintetizado inteiro com os não terminais E, T e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gramática, o terminal n representa um caractere de nova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Imprimir(E.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          E.val:=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+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         E.val:=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T.val:=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*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       T.val:=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E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2394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9920" y="20638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32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74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6110280"/>
            <a:ext cx="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8160" y="546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8480" y="3651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870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88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 (forma alterna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01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609300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544500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013360"/>
            <a:ext cx="122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8480" y="365112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87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al 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0720" y="488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5589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6560" y="53737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1: Mostre a árvore de derivação para reconhecer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2: Escreva ações semânticas para produzir e escrever como saída um número inteiro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execução das ações semânticas p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código intermedi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ou interpretar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r informaçõ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car a semântica dos com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itir mensagens de err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 = 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*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                           número.val =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5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557360"/>
            <a:ext cx="79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98900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1557360"/>
            <a:ext cx="0" cy="489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: Construa a árvore gramatical anotada para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tradução dirigida pela sintaxe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sume-se que os terminais tenham somente atributos sintetizados na medida em que as definições não providencie quaisquer regras semân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valores para os atributos dos terminais costumam ser fornecidos pelo léx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.val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0121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tributos sintetiz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bastante usados na pr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definição dirigida pela sintaxe somente com atributos sintetizados é chamada de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definição S-atribu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costumam ser avaliados de baixo para cima, das folhas para a ra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tributos herd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convenientes para expressar construções de LPs em relação ao contexto em que apare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nte útil na verificação de 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ar se um identificador aparece do lado esquerdo (endereço) ou direito (valor) d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L                      L.in:= T.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t                        T.tipo:=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loat                     T.tipo:=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L1, id                   L1.in:= L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d                         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565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2708280"/>
            <a:ext cx="1800360" cy="1008000"/>
          </a:xfrm>
          <a:prstGeom prst="wedgeRoundRectCallout">
            <a:avLst>
              <a:gd name="adj1" fmla="val -98500"/>
              <a:gd name="adj2" fmla="val 101652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.in é um atributo her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a árvore gramatical anotada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 a, B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um atributo b em um nó de uma árvore de derivação depende de um atributo c, então a regra semântica de b deve ser avaliada após a regra semântica que defin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terdependências entre os atributos herdados e atributos sintetizados em uma árvore gramatical é denotada por um grafo dirigido chama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Grafo de Dependência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nstruído para uma árvore gramat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 mostra as interdependências entre os atributos dos nós da árvore grama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Definir uma ordem de avaliação das regras semânticas em uma tradução dirigida pela sint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2800" y="2760480"/>
            <a:ext cx="79581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atribu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símbolo gramatical e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 nó par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 grafo de depend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regra semântica b:= f(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= 1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é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a aresta a partir do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té o nó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0200" y="1557360"/>
            <a:ext cx="81198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egra semântica deve ser da forma b := f(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fo possui um nó para cada atributo. Existe uma arest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b se o atributo b depende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tornar as ações semânticas mais efetivas, pode-se associar variáveis aos símbolos (terminais e não terminais) da gra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os símbolos gramaticais passam a conter atributos (ou parâmetros) capazes de armazenar valores durante o processo de re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581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classificação topológ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ordenação dos nós de um grafo que segue a reg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aresta do grafo de dependências, ent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arece ante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classificação top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classificação topológica indica uma ordem válida na qual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quais uma regra semântica dependa b:= f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devem estar disponíveis antes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 aval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e uma ordenação topológica baseada em regras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loat x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representação intermediária que pode ser construída por definições dirigidas pela si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para a tradução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ta-se de uma for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ens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 árvore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árvore sintática (abstrata) é uma forma condensada da árvore gramatical na q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es e palavras chaves não aparecem como folhas, mas como nós interiores da ár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93000" y="3421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13360" y="4068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0536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61320" y="4195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65720" y="428472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92720" y="4343400"/>
            <a:ext cx="50508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45360" y="370800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48680" y="372888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255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332000" y="357660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01960" y="357516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1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9400" y="3705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3760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3760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36600" y="40892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4264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50960" y="455148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0920" y="454968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4240" y="45910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4680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4600" y="4735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1320" y="473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520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98492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72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2200" y="505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56092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738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73360" y="55926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9280" y="5770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33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121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2440" y="46576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4913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peradores e palavras-chave não aparecem nas folhas, mas sim em nó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ções dirigida pela sintaxe podem ser usadas t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gramaticai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sintátic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77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a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gramatic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 a prod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f B then S1 else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27280" y="1700280"/>
            <a:ext cx="381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vore Sintátic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ando condiciona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6360" y="256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 – then –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4080" y="408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94440" y="40892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360" y="408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308280" y="302256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23040" y="3022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61480" y="30225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700280"/>
            <a:ext cx="4103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79800" y="226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36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048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8560" y="3716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3716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51400" y="37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65800" y="3716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2920" y="272556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65040" y="272556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32080" y="2725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8400" y="27255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272556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37000" y="272556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expressões é correspondente à construção da expressão na forma pos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ossível escrever uma definição dirigida pela sintaxe para construir uma árvore sintática de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nó da árvore sintática pode ser implementado como um registro com vário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nó t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mpo que identifica o 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campos que são ponteiros para 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operador é comumente chamado de label do n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atributo é qualquer propriedade de uma construção de linguagem de program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cesso de computar um atributo e associar o seu valor computado com a construção da linguagem em questão recebe o nome 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marração do atrib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os nós de uma árvore sintática usaremos a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o operador igual a op e dois campos com ponteiros para a subárvores esquerda e dir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identificador com label id e um campo contendo a entrada d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número com label id e um campo contendo o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86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ção                       Regra Semâ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T                   E.ptr:= cria_no(‘+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                    E.ptr:= cria_no(‘-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                            E.ptr:= T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)                         T.ptr:= E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d                           T.ptr:= cria_folha(id, id.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                       T.ptr:= cria_folha(num, num.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2373480"/>
            <a:ext cx="797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14680" y="19414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300640"/>
            <a:ext cx="84358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gura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finições dirigidas pela sintaxe para construção de uma árvore sintática de uma ex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 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expressão a – 4 +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da árvore sintática em uma estrutur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2000" y="3068640"/>
            <a:ext cx="146340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692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264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968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068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7540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326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98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6572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4660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0380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280120" y="3251160"/>
            <a:ext cx="146376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92880" y="3251160"/>
            <a:ext cx="9144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75000" y="4073400"/>
            <a:ext cx="9144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37320" y="4073400"/>
            <a:ext cx="64116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54800" y="4805280"/>
            <a:ext cx="1096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1720" y="480528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236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8320" y="362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2720" y="371628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39720" y="3774960"/>
            <a:ext cx="5050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313956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95680" y="3160800"/>
            <a:ext cx="5047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65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80000" y="5300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= Directed Acyclic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grafo usado para identificar as subexpressões comuns em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l como uma árvore sintática, um DAG possui um nó para cada subexpressão d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ferença é que no DAG um nó pode ter mais de um p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, sub-expressões comuns são representadas como sub-árvores dupli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a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24800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37492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6000" y="4581360"/>
            <a:ext cx="136836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211280" y="4653000"/>
            <a:ext cx="144360" cy="86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07600" y="5589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118800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46728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4437000"/>
            <a:ext cx="50508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116000" y="4508640"/>
            <a:ext cx="216000" cy="79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3240" y="5373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 Sintática para a expressão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45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201760" y="3643200"/>
            <a:ext cx="36036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076720" y="3557520"/>
            <a:ext cx="339840" cy="447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643280" y="429084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6560" y="429264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6680" y="3959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2720" y="45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221000"/>
            <a:ext cx="21564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97360" y="51498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225960" y="4832280"/>
            <a:ext cx="28872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28880" y="483408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49520" y="449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75040" y="512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56000" y="4511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71640" y="422100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da a expressão                   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600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fo Dirigido Acíc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067280" y="3557160"/>
            <a:ext cx="1349280" cy="11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4221000"/>
            <a:ext cx="5032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27480" y="5310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556080" y="4992480"/>
            <a:ext cx="288720" cy="36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59360" y="4994280"/>
            <a:ext cx="288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4653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05160" y="528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556000" y="422100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90800" y="3500280"/>
            <a:ext cx="493560" cy="1081080"/>
          </a:xfrm>
          <a:custGeom>
            <a:avLst/>
            <a:gdLst/>
            <a:ahLst/>
            <a:rect l="l" t="t" r="r" b="b"/>
            <a:pathLst>
              <a:path w="311" h="681">
                <a:moveTo>
                  <a:pt x="311" y="0"/>
                </a:moveTo>
                <a:cubicBezTo>
                  <a:pt x="193" y="79"/>
                  <a:pt x="76" y="159"/>
                  <a:pt x="38" y="273"/>
                </a:cubicBezTo>
                <a:cubicBezTo>
                  <a:pt x="0" y="387"/>
                  <a:pt x="42" y="534"/>
                  <a:pt x="84" y="681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definições dirigidas pela sintaxe da Figura 1 podem ser usadas para construir o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mudarmos as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funções deverão checar se o nó sendo criado já exi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Definições S-atribuí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aquelas que só possuem atributos sinte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s atributos pode ser controlado pela pilha sintática em um parser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ad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reduç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valor de um atributo sintetizado é calculado a partir dos símbolos empilhados que aparecem do lado direito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tradução dirigida pela sintaxe, os atributos são diretamente associados aos símbolos gramaticais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X for um símbolo gramatical (terminal ou não terminal),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for um atributo associado a X, escrevemos X.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o valor de a associado 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5816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est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um ponteiro ou índice de uma tabela sintática (usa-se no entanto o símbolo gramatical para facilita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valo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o valor do atributo associado ao nó gramatical correspondente a um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58080" y="4292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97720" y="429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26120" y="60958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21400" y="60958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30800" y="51562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26440" y="51562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6120" y="56260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21400" y="5626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16640" y="5873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73640" y="5648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30800" y="46944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26440" y="46944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4356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-&gt; XYZ    { A.a := f(X.x, Y.y, Z.z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sintetizados são avaliado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tamente antes de cada re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XY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configuração da pilha se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6400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92400" y="59529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88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744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2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2400" y="54831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88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82920" y="5730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39920" y="550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9744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92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Z.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.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.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ós a redução topo é decrementado d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42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4221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2040" y="60246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27680" y="60246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708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3236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32040" y="55548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927680" y="55548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22560" y="580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79560" y="5576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5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estado que A será colocado onde estav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 atributo sintetizad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.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á colocado em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55627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55627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46483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46483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5105520"/>
            <a:ext cx="12952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67480" y="5105520"/>
            <a:ext cx="12956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4950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732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50133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32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732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22200" y="57308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36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32000" y="45514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080" y="5452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45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                Imprimir(val[top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val[ntopo]:= val[topo-2] +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val[ntopo]:= val[topo-2] x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val[topo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2421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24256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uma produção é reduzida co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ímbolos gramaticais do lado direito, tem-se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ntopo= topo-r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ois da execução de cada conjunto de regras semânticas,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topo= nto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avaliação da expressã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3*5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em que os atributos são sempre avaliados em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rdem de pesquisa em profund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definição dirigida pela sintaxe é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-atribuíd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cada atributo herdado d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nde 1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que esteja do lado direito de uma produção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r so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dos símbol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-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esquerda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herdados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isitar_df(n: n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da filh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esquerda para direita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herd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itar_df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sintetiz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bém são ações semânticas, tal como definições dirigidas pela sintax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 a ordem em que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bem detalhes de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squema de traduçã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gramática livre de contexto na qual as ações semânticas são inserid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 lado 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s produ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val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lexema)}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vez que uma regra de produção é usada no processo de reconhecimento de uma sentença, os símbolos gramaticais são alocados junto com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esquemas de tradução podemos determinar a ordem na qual ações e avaliações de atributos acontec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Top-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ções L-Atribuídas serão implementadas durante um analisador pred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emos esquemas de tra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+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+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-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T              { E.val = T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( E )          { T.val = E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m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{ T.val = num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quema de tradução com uma gramática recursiva à esque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5760" y="1577880"/>
            <a:ext cx="83642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&gt; 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i =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.val = R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+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-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.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( E )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:= E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ma de tradução transformado com uma gramática recursiva à direi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2728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0000" y="24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79280" y="1916280"/>
            <a:ext cx="647640" cy="50472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74920" y="2924280"/>
            <a:ext cx="1440" cy="576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3528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68360" y="27082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1916280"/>
            <a:ext cx="792000" cy="433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64000" y="24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3640" y="342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T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419640" y="2852640"/>
            <a:ext cx="28728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4720" y="2852640"/>
            <a:ext cx="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2781360"/>
            <a:ext cx="122400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94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3860640"/>
            <a:ext cx="18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356000" y="3860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3645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84720" y="3860640"/>
            <a:ext cx="0" cy="648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580000" y="3860640"/>
            <a:ext cx="2160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50280" y="43862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88000" y="3860640"/>
            <a:ext cx="1008360" cy="505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9800" y="537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6360" y="479736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516720" y="4797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56720" y="484812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14520" y="5300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00720" y="3860640"/>
            <a:ext cx="93528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20000" y="465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2924280"/>
            <a:ext cx="93492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4520" y="6308640"/>
            <a:ext cx="49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expressão 9 – 5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samos atributos herdados e sintetizados, usamos as heurísticas a seguir para criar esquemas de tra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um símbolo do lado direito precisa ser calculado em uma 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 não pode se referir a uma atributo sintetizado de um símbolo à direita da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um não terminal à esquerda deve ser calculado somente após o cálculo de todos os atributos que o mesmo refer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nsando na árvore de derivação da sentença sob análise, é como se a cada nó da árvore (símbolo gramatical) correspondesse a uma instanciação de um símbolo e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o se o nó contivesse campos para armazenar valores correspondentes ao símb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28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 addTAbSimb( id.lexeme, type.tipo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557360"/>
            <a:ext cx="2592360" cy="1079640"/>
          </a:xfrm>
          <a:prstGeom prst="wedgeEllipseCallout">
            <a:avLst>
              <a:gd name="adj1" fmla="val -56675"/>
              <a:gd name="adj2" fmla="val 8352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xeme é um atributo do át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3600360" cy="1584360"/>
          </a:xfrm>
          <a:prstGeom prst="wedgeEllipseCallout">
            <a:avLst>
              <a:gd name="adj1" fmla="val 38888"/>
              <a:gd name="adj2" fmla="val -12815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ímbolo gramatical type tem um atributo tipo que indica qual o tipo enco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08-16T02:06:42Z</dcterms:modified>
  <cp:revision>675</cp:revision>
  <dc:subject/>
  <dc:title>Aula 1802 – Fases de um compilador</dc:title>
</cp:coreProperties>
</file>